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AC99-52F7-45A2-9B0C-C432BB919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CED2-2696-48ED-BFC5-ED230F815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1C07-4941-4C7F-B7F1-71BB6DA7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902-E4C0-4984-8454-09B45378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CF9-AF11-4C8A-B20C-178C700D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002E-37EC-4BBF-923C-5C85FE78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AB18-FBBB-4EA4-AD2C-82CED2F8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049D-E161-4917-8319-3EA67367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66E-D332-461F-892C-68875F0C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0C54-BFF8-44F2-97F0-CA95FB6B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BAAF-57AE-4A47-98D2-8444E027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0A15-17EB-4E3D-AB34-DB0B4F84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640-2208-4047-927B-4B40BBBD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8C5B-F7E7-4C76-B7E2-B5C68995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3BC7-FB54-41D3-BB04-F9DBD173F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МАСТЕР АКАДЕМСКЕ СТУДИЈЕ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Мастер менаџмент у систему здравствене заштите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ЛИТИКА И СИСТЕМ ЗДРАВСТВЕНЕ ЗАШТИТЕ</a:t>
            </a:r>
            <a:br>
              <a:rPr sz="2400"/>
            </a:br>
            <a:br>
              <a:rPr sz="2400"/>
            </a:b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НЦЕПТ КВАЛИТЕТА ЖИВОТА</a:t>
            </a:r>
            <a:br>
              <a:rPr sz="2400"/>
            </a:b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ставна јединица бр. 8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валитет живота корисника здравственог система. Методе за одређивање квалитета живота.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оц. др Оливера Миловановић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457200" y="609480"/>
            <a:ext cx="78566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трошкова у фармакоеконом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ректни – трошкови које фонд здравственог осигурања директно плаћа (лекови, плате здравствених радника, материјални трошкови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ректни – трошкови које плаћа пацијент или друштво (губитак радних дана, губитак продуктивности, ит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ухватљиви (енгл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ngibl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– бол, страх, забринутост пацијент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трошкова у фармакоеконом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иксни трошкови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рошкови који се не мењају са променом количине услуга или производа у краћем временском периоду (типично током 1 годин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аријабилни трошкови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ошкови који се мењају са променама у обиму услу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трошкова у фармакоеконом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ошкови могућност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Opportunity cost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изгубљена корист ако се изабере једна терапија уместо дру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сновни појмови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Корист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(енгл.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enefit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рене "“природним"” јединицама (нпр. број спречених случајева шлога, број залечених улкуса, број излечених прелома потколенице, итд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рене јединицама “"корисности"” (енгл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tility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 за пацијента, тј. колико се при преласку из једног стања здравља у друго мења задовољство пацијента, односно његов осећај благостања. “Корисност” се обично изражава квалитетом живо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сновни појмови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идружена доб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дружена добит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ociated economic benefi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- је добит коју има друштво, изражено у новцу, као последицу оздрављења пацијен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пр. услед повратка на посао, друштво добија кроз вредност коју бивши болесник сада ства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ошкови и добити у временској перспекти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ке третмане се мора одмах инвестирати велика сума (нпр. операција на коронарним артеријама), док код других улагање траје више година. Када се упоређују трошкови таквих третмана треба узети у обзир како се трошкови мењају у времену (нпр. урачунати инфлациј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Квалитет живота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(engl. quality of lif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алитет живота обухват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цијалн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моционалн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аспекте стања пацијен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 је перцепција појединца његовог положаја у животу, у контексту културних и вредносних система средине у којој живи, као и у вези са његовим циљевима, очекивањима, стандардима и бриг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о се мери квалитет живот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ри се помоћу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струмена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који се мог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елити на два начи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начину мерењ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Ф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ЕК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специфичности за одређену болес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НЕРИ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ЕЦИФИЧ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фи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фили су заправо скале које оцењују више аспеката квалитета живота посебно (нпр. социјална интеракција, покретљивост, способност да се пацијент брине сам о себи, ит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јпознатије скале за мерење профила су: Профил утицаја болести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l. Sickness Impact Profil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F-3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Нотингемски профил здравља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tingham Health Profil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енерички профили обично имају следеће делов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изичко функционисање (10 пит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граничења улоге/физичка (4 пит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граничења улоге/емоционална (3 пит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цијално функционисање (2 пит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моционално благостање (5 пит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нергија/замор (4 пит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ол (2 пит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пшта перцепција здравља (5 пит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нтр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кономија – наука о томе како друштво одлучује шта ће производити, како ће то чинити и за ко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дравствена економија – је економија примењена на здравство. Она третира здравствене услуге као и остале услуге на тржишту, уз уважавање специфич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DQOL-S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пецифични профил за квалитет живота код обољења бубре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имптоми/проблеми (12 питањ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фекти болести бубрега (8 питањ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Оптерећење бубрежним обољењем (4 питањ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адни статус (2 питањ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гнитивна функција (3 питањ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валитет социјалне интеракције (3 питањ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ексуална функција (2 питањ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ан (4 питањ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дек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екси своде целокупан квалитет живота н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једну вреднос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обично на скали од 0 (смрт или стање без свести) до 1 (пуно здравље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ас се од индекса највише користе године живота кориговане за квалитет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Quality Adjusted Life Year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које се добијају када се број година живота помножи са квалитетом сваке године (израженим бројем између 0 и 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Генерички и специфични инстру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нерички инструменти се могу користити за мерење квалитета живота код већине боле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ецифични инструменти се користе за мерење квалитета живота код одређених болести, популација или функциј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фармакоекономских анали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нализа минимизирања трошкова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Cost Minimisation Analysis)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примењује се када је исход две алтернативне терапије ИСТИ, па се само упоређује њихова це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нализа трошкова/клиничког ефекта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Cost Effectiveness Analysis)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примењује се у ситуацијама када се исход два алтернативна третмана мери ИСТИМ “природним” ЈЕДИНИЦАМА (нпр. број спречених шлогова), а трошкови се мере новце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фармакоекономских анали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Анализа трошкова/корисност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Cost Utility Analysis)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оређује се “корисност” два различита третмана (често различитих болести), узимајући у обзир њихове трошкове изражене у новц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рисност” се изражава најчешће добијеним годинама живота које су кориговане за квалите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Quality Adjusted Life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фармакоекономских анали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нализа Трошкови/добит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Cost Benefit Analysis)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израчунава се придружена добит сваког од третмана (изражено у новцу) и упоређује са њиховим трошкови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о је могуће упоређивати потпуно различите третмане (“вредност за новац”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ерспектива добијених резултата у фармакоеконом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езултати фармакоекономске анализе могу јако варирати у зависности од тачке гледишта. Нпр. фонду здравственог осигурања неће одговарати употреба врло скупог лека који ће потпуно опоравити пацијента, али друштву као целини хоће, јер се смањују трошкови његове неге и издржавањ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Три основне перспективе: институционална, друштвена и индивидуал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ФАРМАКОЕКОНОМИ</a:t>
            </a:r>
            <a:r>
              <a:rPr b="0" lang="sr-Latn-RS" sz="4000" spc="-1" strike="noStrike">
                <a:solidFill>
                  <a:srgbClr val="000000"/>
                </a:solidFill>
                <a:latin typeface="Calibri"/>
              </a:rPr>
              <a:t>ЈА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ДОМЕН И ЗН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А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армакоекономија је на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на дисципл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која, применом економс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ана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тичк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метода, пореди улагања са добијеним исходима на пољу здравствених услу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Њен циљ је најрационалнија могућа расподела расположивих ресурса у здравств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сторијат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Током 60-тих година у развијеним друштвима први пут примећен тренд да сваке године све већи део бруто националног доходка се троши на здравствену заштиту становништва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Тада се јављају прва систематска истраживања потрошње средстава и броја пружених услуга у великим клиничким центрима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сторијат фармакоеконом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сновне концепте су први увели 1978. годин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McGhan, Rowland i Bootm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1979. годин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ootm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је извео прву анализу трошкови/доби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cost/benefit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дозирања аминогликози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Термин “ФАРМАКОЕКОНОМИЈА је 1986. године уве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ownse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што фармакоеконо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Великој Британији се у 1994. години издвајало за лекове 65 фунти по становнику, или 8.9 рецепата по становн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Србији се у 2001. години издвајало за лекове 22 америчка долара по становнику, а у 2011. 144 америчка долара по становни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ДЕФИНИЦИЈА ФАРМАКОЕКОНОМ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Фармакоекономија је наука која проучава како људи и друштво одлучују да употребе ограничене ресурсе (који су могли да се употребе за нешто друго) за производњу лекова и потрошног материјала и како их расподељују људима и друштвеним групама да би се добило на квантитету и квалитету жив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на анализира трошкове и користи побољшавања метода расподеле ресурса у производњи, дистрибуцији и потрошњи лекова и потрошног материја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фикасност, клинички ефекат и стварна корист од л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фикасно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fficacy)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 ли лечење постиже нешто, тј. да ли "“ради”"? Процењује се у клиничким студ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линички ефека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linical effectiveness)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пен у коме лек постиже ефекат у клиничкој прак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варна корист од лек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fficiency)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 ли је лек вредан цене коју за њега плаћају појединци и друштво? Процењује се фармакоекономским студ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финисање основних појм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купна вредност свих ресурса који се утроше у производњи робе или услуге представља њихове трошков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engl. cos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Цена је збир трошкова робе или услуге плус профи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(engl. charge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2T07:19:51Z</dcterms:created>
  <dc:creator>Admin</dc:creator>
  <dc:description/>
  <dc:language>en-US</dc:language>
  <cp:lastModifiedBy>Ucionica</cp:lastModifiedBy>
  <dcterms:modified xsi:type="dcterms:W3CDTF">2019-02-10T11:31:09Z</dcterms:modified>
  <cp:revision>14</cp:revision>
  <dc:subject/>
  <dc:title>Интегрисане академске студије фармације  Д03 ФАРМАКОЕКОНОМИЈА   Увод у фармакоекономију  Историјат и теоретске основе</dc:title>
</cp:coreProperties>
</file>